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move the slide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A6C566-DF82-40BE-A098-B34324C9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060711-2AFE-4857-A6D2-F9E8EB3A2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AD4CA1-DAF6-4B90-B087-19BEDC9877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09FA0C-7F39-4280-9CB7-A66B0830F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258556-8FF6-4E37-B8A1-E0D8F708FC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905E49-95B0-4A60-A1B8-A91C2DF4F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3EBEC9-E53C-45DF-ABE9-F14B97B7E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8E088C-D621-45F7-8F96-FA8A37AB01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C58344-ADA3-40C2-95EF-62D2FC656C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58F1CB-8BE2-4D43-B112-68AEE903B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432-9E83-4702-9BD6-AA25FA26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9ED-57E8-438F-8716-924EF22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2F9-F743-400E-B714-66B24B97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A6F-142E-41F9-A702-D53E972E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7826-FA78-4025-BFF1-C852D099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9E7A-DE85-4797-9BF1-B5369550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9F89-7DCA-4182-8B91-92B42F60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226E-9AD2-4E0B-9723-30EB0891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2973-BD6B-4D97-9ABF-EE0D4935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F725-4270-4B6E-9A44-465209D7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E85A-12F4-4AD1-A244-86E6254E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81F-0403-4690-825E-D5A02B1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2D33-3DE0-4061-92EA-C758694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1F81-09A8-4A0C-8E8B-4AA32DFE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8E5A-2729-486E-B9BC-A8421CFE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0B75-6A3D-4C78-8FDC-E0AA5771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7AE2-79C4-499E-9C75-B40E618D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B4B2-2513-4735-B932-4F8E4116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520E-933B-4F0B-8A1C-2A56D6C8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07E7-880A-47BC-B44B-F40D34B7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F44E-0BA8-4771-A369-FFFD818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E297-73B6-4E6D-A41F-87064C09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4B3-45C4-4BE8-AAB4-DB5A73A0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A4AFA-5204-4C09-BAEB-8EAFA1C2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B134-206E-4D42-9B6F-876C1438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8E6F-8A45-4800-9B0A-51B02876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CB0D-C745-4202-8458-77453EF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2026-9C50-4D4F-9927-ED23B850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8E2DE-54EF-4321-9694-E03C98D2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B325-5B77-4A24-B4CE-32459552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767C0-E67E-4517-9B37-2124C55F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B082-C309-45A5-B36E-0DB125FF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31C83-AB7C-4A86-B75C-F88988B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5B1-1F00-408F-8AFB-5645B842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FE95-950E-4A1F-9D0D-CF377FC6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C8D1-5DBB-4ECD-8C2B-5C7ECFAA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539A1-B4D6-420D-B4ED-089819B3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9147-B64B-4794-8734-8C47BF5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40E6-921A-48F1-8D61-48396E14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4CA0-EC80-4628-B9FD-E412F9F4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3BE6-AD09-4D00-BED0-EED37743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DC976-F734-43DF-BEB7-06FF0EE3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FE3E-5D1A-4185-8E52-0AF943BD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DEB-ED41-41CC-858E-C8702A2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ED5-BD18-49A0-846E-3C036E7F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7AD-6402-4CFA-A023-76587E85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A94-B5B1-4F2F-907C-E5391E0D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055-3DDF-44B9-925B-BBAFD9C2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7160" y="225360"/>
            <a:ext cx="8692920" cy="639936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27160" y="3430440"/>
            <a:ext cx="8692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6" descr="A_2colors"/>
          <p:cNvPicPr/>
          <p:nvPr/>
        </p:nvPicPr>
        <p:blipFill>
          <a:blip r:embed="rId3"/>
          <a:stretch/>
        </p:blipFill>
        <p:spPr>
          <a:xfrm>
            <a:off x="406440" y="412920"/>
            <a:ext cx="960480" cy="677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woolf"/>
          <p:cNvPicPr/>
          <p:nvPr/>
        </p:nvPicPr>
        <p:blipFill>
          <a:blip r:embed="rId4"/>
          <a:srcRect l="0" t="56582" r="0" b="36272"/>
          <a:stretch/>
        </p:blipFill>
        <p:spPr>
          <a:xfrm>
            <a:off x="228600" y="1228680"/>
            <a:ext cx="8693280" cy="914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8600" y="1143000"/>
            <a:ext cx="8693280" cy="1066680"/>
          </a:xfrm>
          <a:prstGeom prst="rect">
            <a:avLst/>
          </a:prstGeom>
          <a:gradFill rotWithShape="0">
            <a:gsLst>
              <a:gs pos="0">
                <a:srgbClr val="002762">
                  <a:alpha val="60392"/>
                </a:srgbClr>
              </a:gs>
              <a:gs pos="100000">
                <a:srgbClr val="002762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1228680"/>
            <a:ext cx="8693280" cy="18252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227160" y="225360"/>
            <a:ext cx="869292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227160" y="6622920"/>
            <a:ext cx="869292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22824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124080" y="615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78132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b3c8"/>
                </a:solidFill>
                <a:latin typeface="Gill Sans St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E7F4-00D3-4CE7-A85A-20C9CFB955ED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27160" y="225360"/>
            <a:ext cx="8692920" cy="639936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27160" y="3430440"/>
            <a:ext cx="8692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28600" y="1222200"/>
            <a:ext cx="8693280" cy="19548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27160" y="225360"/>
            <a:ext cx="869292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27160" y="6622920"/>
            <a:ext cx="869292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22824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124080" y="615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78132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b3c8"/>
                </a:solidFill>
                <a:latin typeface="Gill Sans St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0D6-07CC-4388-AA29-84D357AFFD97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2" descr="A_2colors"/>
          <p:cNvPicPr/>
          <p:nvPr/>
        </p:nvPicPr>
        <p:blipFill>
          <a:blip r:embed="rId3"/>
          <a:stretch/>
        </p:blipFill>
        <p:spPr>
          <a:xfrm>
            <a:off x="406440" y="412920"/>
            <a:ext cx="960480" cy="677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226800" y="1404720"/>
            <a:ext cx="8692920" cy="522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title"/>
          </p:nvPr>
        </p:nvSpPr>
        <p:spPr>
          <a:xfrm>
            <a:off x="1389240" y="225000"/>
            <a:ext cx="7532640" cy="1179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370160" y="225360"/>
            <a:ext cx="7549920" cy="640728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370160" y="3430440"/>
            <a:ext cx="7549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woolf"/>
          <p:cNvPicPr/>
          <p:nvPr/>
        </p:nvPicPr>
        <p:blipFill>
          <a:blip r:embed="rId3"/>
          <a:srcRect l="0" t="56056" r="0" b="35700"/>
          <a:stretch/>
        </p:blipFill>
        <p:spPr>
          <a:xfrm>
            <a:off x="1371600" y="1228680"/>
            <a:ext cx="7550280" cy="916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_2colors"/>
          <p:cNvPicPr/>
          <p:nvPr/>
        </p:nvPicPr>
        <p:blipFill>
          <a:blip r:embed="rId4"/>
          <a:stretch/>
        </p:blipFill>
        <p:spPr>
          <a:xfrm>
            <a:off x="109440" y="5762520"/>
            <a:ext cx="1228680" cy="866880"/>
          </a:xfrm>
          <a:prstGeom prst="rect">
            <a:avLst/>
          </a:prstGeom>
          <a:ln w="0">
            <a:noFill/>
          </a:ln>
        </p:spPr>
      </p:pic>
      <p:sp>
        <p:nvSpPr>
          <p:cNvPr id="106" name="Line 8"/>
          <p:cNvSpPr/>
          <p:nvPr/>
        </p:nvSpPr>
        <p:spPr>
          <a:xfrm>
            <a:off x="1371600" y="225360"/>
            <a:ext cx="755028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371600" y="6632640"/>
            <a:ext cx="755028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371600" y="1143000"/>
            <a:ext cx="7550280" cy="1066680"/>
          </a:xfrm>
          <a:prstGeom prst="rect">
            <a:avLst/>
          </a:prstGeom>
          <a:gradFill rotWithShape="0">
            <a:gsLst>
              <a:gs pos="0">
                <a:srgbClr val="002762">
                  <a:alpha val="60392"/>
                </a:srgbClr>
              </a:gs>
              <a:gs pos="100000">
                <a:srgbClr val="002762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371600" y="1228680"/>
            <a:ext cx="7550280" cy="18252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dt" idx="7"/>
          </p:nvPr>
        </p:nvSpPr>
        <p:spPr>
          <a:xfrm>
            <a:off x="137124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ftr" idx="8"/>
          </p:nvPr>
        </p:nvSpPr>
        <p:spPr>
          <a:xfrm>
            <a:off x="3695400" y="6152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9"/>
          </p:nvPr>
        </p:nvSpPr>
        <p:spPr>
          <a:xfrm>
            <a:off x="678132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b3c8"/>
                </a:solidFill>
                <a:latin typeface="Gill Sans St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4615-3DE9-40BD-B89C-414B453879CD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1370160" y="2128320"/>
            <a:ext cx="7549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title"/>
          </p:nvPr>
        </p:nvSpPr>
        <p:spPr>
          <a:xfrm>
            <a:off x="1370160" y="227160"/>
            <a:ext cx="754992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371600" y="225360"/>
            <a:ext cx="7550280" cy="639936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71600" y="3430440"/>
            <a:ext cx="755028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371600" y="1222200"/>
            <a:ext cx="7550280" cy="19548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1371600" y="225360"/>
            <a:ext cx="754236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371600" y="6622920"/>
            <a:ext cx="754236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A_2colors"/>
          <p:cNvPicPr/>
          <p:nvPr/>
        </p:nvPicPr>
        <p:blipFill>
          <a:blip r:embed="rId3"/>
          <a:stretch/>
        </p:blipFill>
        <p:spPr>
          <a:xfrm>
            <a:off x="109440" y="5762520"/>
            <a:ext cx="1228680" cy="866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137124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3695400" y="6152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678132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b3c8"/>
                </a:solidFill>
                <a:latin typeface="Gill Sans St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81BD-7C62-4EB6-8167-80741B53E050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1370160" y="1406160"/>
            <a:ext cx="7549920" cy="521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title"/>
          </p:nvPr>
        </p:nvSpPr>
        <p:spPr>
          <a:xfrm>
            <a:off x="1370160" y="227160"/>
            <a:ext cx="754992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28600" y="225360"/>
            <a:ext cx="8693280" cy="640728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27160" y="3430440"/>
            <a:ext cx="8692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6" descr="cam_scn_sm_31"/>
          <p:cNvPicPr/>
          <p:nvPr/>
        </p:nvPicPr>
        <p:blipFill>
          <a:blip r:embed="rId3"/>
          <a:srcRect l="0" t="42568" r="0" b="29191"/>
          <a:stretch/>
        </p:blipFill>
        <p:spPr>
          <a:xfrm>
            <a:off x="228600" y="988920"/>
            <a:ext cx="8680320" cy="1371600"/>
          </a:xfrm>
          <a:prstGeom prst="rect">
            <a:avLst/>
          </a:prstGeom>
          <a:ln w="0">
            <a:noFill/>
          </a:ln>
        </p:spPr>
      </p:pic>
      <p:sp>
        <p:nvSpPr>
          <p:cNvPr id="205" name="Line 7"/>
          <p:cNvSpPr/>
          <p:nvPr/>
        </p:nvSpPr>
        <p:spPr>
          <a:xfrm>
            <a:off x="228600" y="225360"/>
            <a:ext cx="869328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228600" y="6627960"/>
            <a:ext cx="869328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2744640" y="3429000"/>
            <a:ext cx="3656160" cy="1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6b10"/>
              </a:gs>
              <a:gs pos="100000">
                <a:srgbClr val="6c32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Rectangle 10"/>
          <p:cNvGrpSpPr/>
          <p:nvPr/>
        </p:nvGrpSpPr>
        <p:grpSpPr>
          <a:xfrm>
            <a:off x="231840" y="895320"/>
            <a:ext cx="8686440" cy="1549440"/>
            <a:chOff x="231840" y="895320"/>
            <a:chExt cx="8686440" cy="1549440"/>
          </a:xfrm>
        </p:grpSpPr>
        <p:pic>
          <p:nvPicPr>
            <p:cNvPr id="209" name="Rectangle 10" descr=""/>
            <p:cNvPicPr/>
            <p:nvPr/>
          </p:nvPicPr>
          <p:blipFill>
            <a:blip r:embed="rId4"/>
            <a:stretch/>
          </p:blipFill>
          <p:spPr>
            <a:xfrm>
              <a:off x="234720" y="895320"/>
              <a:ext cx="86835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31840" y="896760"/>
              <a:ext cx="86850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Rectangle 11"/>
          <p:cNvSpPr/>
          <p:nvPr/>
        </p:nvSpPr>
        <p:spPr>
          <a:xfrm>
            <a:off x="228600" y="985680"/>
            <a:ext cx="8685360" cy="22860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12" descr="full_2color_blue"/>
          <p:cNvPicPr/>
          <p:nvPr/>
        </p:nvPicPr>
        <p:blipFill>
          <a:blip r:embed="rId5"/>
          <a:stretch/>
        </p:blipFill>
        <p:spPr>
          <a:xfrm>
            <a:off x="2952720" y="5176800"/>
            <a:ext cx="3198960" cy="1000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225360"/>
            <a:ext cx="8693280" cy="640728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28600" y="985680"/>
            <a:ext cx="8685360" cy="24768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27160" y="3430440"/>
            <a:ext cx="8692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228600" y="225360"/>
            <a:ext cx="868356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228600" y="6627960"/>
            <a:ext cx="868356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2744640" y="3429000"/>
            <a:ext cx="3656160" cy="1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6b10"/>
              </a:gs>
              <a:gs pos="100000">
                <a:srgbClr val="6c32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10" descr="full_2color_blue"/>
          <p:cNvPicPr/>
          <p:nvPr/>
        </p:nvPicPr>
        <p:blipFill>
          <a:blip r:embed="rId3"/>
          <a:stretch/>
        </p:blipFill>
        <p:spPr>
          <a:xfrm>
            <a:off x="2971800" y="5176800"/>
            <a:ext cx="3198960" cy="1000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226800" y="1404720"/>
            <a:ext cx="8692920" cy="522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389240" y="225000"/>
            <a:ext cx="7532640" cy="1179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6800" y="1213920"/>
            <a:ext cx="8692920" cy="2057400"/>
          </a:xfrm>
          <a:prstGeom prst="rect">
            <a:avLst/>
          </a:prstGeom>
          <a:noFill/>
          <a:ln w="0">
            <a:noFill/>
          </a:ln>
        </p:spPr>
        <p:txBody>
          <a:bodyPr lIns="18288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rst Language Acquisition</a:t>
            </a:r>
            <a:endParaRPr b="0" lang="en-US" sz="32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6800" y="3427200"/>
            <a:ext cx="8692920" cy="319860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cture #16</a:t>
            </a:r>
            <a:endParaRPr b="0" lang="en-US" sz="22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527-C83E-489E-BE8E-E14D376E53C3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Why do we call it language</a:t>
            </a: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 acquisition?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Learning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Intentional process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Presupposes teach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Teacher controls pac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Acquisition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Unconscious process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Does not presuppose teach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Child controls pac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  <p:pic>
        <p:nvPicPr>
          <p:cNvPr id="310" name="Picture 4" descr="MPj02020300000[1]"/>
          <p:cNvPicPr/>
          <p:nvPr/>
        </p:nvPicPr>
        <p:blipFill>
          <a:blip r:embed="rId1"/>
          <a:srcRect l="2699" t="12500" r="0" b="0"/>
          <a:stretch/>
        </p:blipFill>
        <p:spPr>
          <a:xfrm>
            <a:off x="5638680" y="3048120"/>
            <a:ext cx="2349720" cy="32004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F618-CE05-47FD-ACE2-26D71C432C36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7160" y="2128320"/>
            <a:ext cx="823104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How do </a:t>
            </a: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nurture </a:t>
            </a: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nature </a:t>
            </a: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interact in FLA?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Natur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Must have LAD—poverty of stimulus too great to learn without “language instinct”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All children learn a language; have language capacity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Overgeneralizations demonstrate child is analyzing languag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Nurtur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Children cannot acquire language without interaction/scaffold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Children learn the language of their environment; through parents who model social interacti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Memorization of chunks by rote demonstrates not all info is anlayzed fully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  <p:transition advTm="10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F7A5-BF56-4256-BC14-AC5E29A5603E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Four Pillars of FLA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7160" y="2128320"/>
            <a:ext cx="457344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lvl="1" marL="690480" indent="-342720">
              <a:spcBef>
                <a:spcPts val="499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Ability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Physiological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Cognitiv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690480" indent="-342720">
              <a:spcBef>
                <a:spcPts val="499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Interaction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Scaffolding (Caretaker speech)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690480" indent="-342720">
              <a:spcBef>
                <a:spcPts val="499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Internal vs. External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Instrumental vs. Integrativ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690480" indent="-342720">
              <a:spcBef>
                <a:spcPts val="499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Forms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Mean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029200" y="350028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ed/limited vocab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ggerated intona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ing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4724280" y="3505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395"/>
                </a:lnTo>
                <a:cubicBezTo>
                  <a:pt x="10800" y="4295"/>
                  <a:pt x="5400" y="5195"/>
                  <a:pt x="0" y="5195"/>
                </a:cubicBezTo>
                <a:cubicBezTo>
                  <a:pt x="5400" y="5195"/>
                  <a:pt x="10800" y="6095"/>
                  <a:pt x="10800" y="69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MPj04387990000[1]"/>
          <p:cNvPicPr/>
          <p:nvPr/>
        </p:nvPicPr>
        <p:blipFill>
          <a:blip r:embed="rId1"/>
          <a:srcRect l="3121" t="0" r="6254" b="46880"/>
          <a:stretch/>
        </p:blipFill>
        <p:spPr>
          <a:xfrm>
            <a:off x="5410080" y="789120"/>
            <a:ext cx="2743200" cy="24112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8CC5-9F8E-408C-9B49-42BAB11D836B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ritical Period Hypothesis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7160" y="2128320"/>
            <a:ext cx="58687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There is an ideal window of opportunity within which we are primed to acquire language: birth - puberty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Evidence?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Adults struggle to learn a second language (to a greater or lesser degree)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e question is why?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We struggle with both the physiological and the cognitive ability.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pic>
        <p:nvPicPr>
          <p:cNvPr id="323" name="Picture 5" descr="MPj04340170000[1]"/>
          <p:cNvPicPr/>
          <p:nvPr/>
        </p:nvPicPr>
        <p:blipFill>
          <a:blip r:embed="rId1"/>
          <a:srcRect l="52087" t="14111" r="8332" b="12548"/>
          <a:stretch/>
        </p:blipFill>
        <p:spPr>
          <a:xfrm>
            <a:off x="6172200" y="2514600"/>
            <a:ext cx="2587680" cy="32004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A225-9589-440D-84B3-4B4F1A3ADA0B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Stages of 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Prelinguistic Sounds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0-1 mo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leep, eat, cry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1 mo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Intonational patterns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2-5 mo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ooing stag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5-12 mo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Babbling stag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One-word Stage (holophrastic)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1 yr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emergence of first word (controversial)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1 yr., 6 mo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Holophrastic stage 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intonation layers on mean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Std Light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Gill Sans Std Light"/>
              </a:rPr>
              <a:t>fis’ phenomen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  <p:pic>
        <p:nvPicPr>
          <p:cNvPr id="327" name="Picture 7" descr="MPj04071400000[1]"/>
          <p:cNvPicPr/>
          <p:nvPr/>
        </p:nvPicPr>
        <p:blipFill>
          <a:blip r:embed="rId1"/>
          <a:stretch/>
        </p:blipFill>
        <p:spPr>
          <a:xfrm>
            <a:off x="4876920" y="129528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38D2-7C43-45D7-A707-EF0A275E1321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Stages of 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Two-word Stage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2 yr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wo words, three possible interpretations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Subject-verb ‘Mary go.’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Verb-modifier ‘Push truck.’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Possessor-possesed ‘Mommy sock’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ontent words, no function words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Telegraphic Stage 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2 yrs., 6 mo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elegraphic stage 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2-5 words with little extra morphology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Std Light"/>
              </a:rPr>
              <a:t>Morphological overgeneralizati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Easier, more productive morphemes first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  <p:pic>
        <p:nvPicPr>
          <p:cNvPr id="331" name="Picture 4" descr="MPj04394410000[1]"/>
          <p:cNvPicPr/>
          <p:nvPr/>
        </p:nvPicPr>
        <p:blipFill>
          <a:blip r:embed="rId1"/>
          <a:srcRect l="8511" t="0" r="6381" b="0"/>
          <a:stretch/>
        </p:blipFill>
        <p:spPr>
          <a:xfrm>
            <a:off x="5486400" y="3400560"/>
            <a:ext cx="3048120" cy="23907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E2A2-9650-40F6-9BAE-B7ED4BE49F22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Stages of 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7160" y="2128320"/>
            <a:ext cx="739296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Telegraphic Stage, cont.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2-5 yr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More elaborate syntax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Learning 20-30 words per day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Semantic overgeneralization/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undergeneralizati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Fine-tuning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5-10 yr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Refining grammar, building vocabulary 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How children learn vocabulary: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Gill Sans St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Std"/>
              </a:rPr>
              <a:t>Assign word to a broad semantic category</a:t>
            </a:r>
            <a:endParaRPr b="0" lang="en-US" sz="1600" spc="-1" strike="noStrike">
              <a:solidFill>
                <a:srgbClr val="ffffff"/>
              </a:solidFill>
              <a:latin typeface="Gill Sans Std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Gill Sans St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Std"/>
              </a:rPr>
              <a:t>Work out distinctions among words in that category</a:t>
            </a:r>
            <a:endParaRPr b="0" lang="en-US" sz="1600" spc="-1" strike="noStrike">
              <a:solidFill>
                <a:srgbClr val="ffffff"/>
              </a:solidFill>
              <a:latin typeface="Gill Sans Std"/>
            </a:endParaRPr>
          </a:p>
        </p:txBody>
      </p:sp>
      <p:pic>
        <p:nvPicPr>
          <p:cNvPr id="335" name="Picture 5" descr="MPj04306580000[1]"/>
          <p:cNvPicPr/>
          <p:nvPr/>
        </p:nvPicPr>
        <p:blipFill>
          <a:blip r:embed="rId1"/>
          <a:srcRect l="39242" t="0" r="0" b="33545"/>
          <a:stretch/>
        </p:blipFill>
        <p:spPr>
          <a:xfrm>
            <a:off x="5715000" y="1523880"/>
            <a:ext cx="243828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E4B8-B10B-425C-8841-B8D2E8244742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Building Vocabulary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Traditional efforts: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lash cards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Look it up in the dictionary—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what is the problem here?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Better to learn vocab in context: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Reading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onversation 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Language learning softwar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066680" y="5486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225"/>
                </a:solidFill>
                <a:latin typeface="Arial"/>
              </a:rPr>
              <a:t>How can you help your children develop their language skills the most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7" descr="MPj04394930000[1]"/>
          <p:cNvPicPr/>
          <p:nvPr/>
        </p:nvPicPr>
        <p:blipFill>
          <a:blip r:embed="rId1"/>
          <a:stretch/>
        </p:blipFill>
        <p:spPr>
          <a:xfrm>
            <a:off x="4800600" y="111456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2:23:05Z</dcterms:created>
  <dc:creator>David J. Silva</dc:creator>
  <dc:description/>
  <dc:language>en-US</dc:language>
  <cp:lastModifiedBy>Comer</cp:lastModifiedBy>
  <dcterms:modified xsi:type="dcterms:W3CDTF">2011-05-11T00:56:31Z</dcterms:modified>
  <cp:revision>143</cp:revision>
  <dc:subject/>
  <dc:title>LING 2301 Introduction to the Study of Human Language</dc:title>
</cp:coreProperties>
</file>